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3.jpeg" ContentType="image/jpeg"/>
  <Override PartName="/ppt/media/image12.gif" ContentType="image/gif"/>
  <Override PartName="/ppt/media/image30.jpeg" ContentType="image/jpeg"/>
  <Override PartName="/ppt/media/image8.gif" ContentType="image/gif"/>
  <Override PartName="/ppt/media/image13.gif" ContentType="image/gif"/>
  <Override PartName="/ppt/media/image9.gif" ContentType="image/gif"/>
  <Override PartName="/ppt/media/image2.png" ContentType="image/png"/>
  <Override PartName="/ppt/media/image25.png" ContentType="image/png"/>
  <Override PartName="/ppt/media/image31.jpeg" ContentType="image/jpeg"/>
  <Override PartName="/ppt/media/image14.gif" ContentType="image/gif"/>
  <Override PartName="/ppt/media/image15.gif" ContentType="image/gif"/>
  <Override PartName="/ppt/media/image20.png" ContentType="image/png"/>
  <Override PartName="/ppt/media/image28.jpeg" ContentType="image/jpeg"/>
  <Override PartName="/ppt/media/image16.gif" ContentType="image/gif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18.gif" ContentType="image/gif"/>
  <Override PartName="/ppt/media/image23.jpeg" ContentType="image/jpeg"/>
  <Override PartName="/ppt/media/image26.png" ContentType="image/png"/>
  <Override PartName="/ppt/media/image17.gif" ContentType="image/gif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8F88-6F7A-4796-8AD0-BD0FC26D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FDC5-645D-4F6A-909A-6D37F6C2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3B1E-F750-4947-8842-CD864ECB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9906-86EB-4EFF-9B60-56AE3A5F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84BB-FC22-48CC-88D0-ED3412B5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1796-F289-4776-BD2C-A34307BF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418F-D36C-4159-9B62-C8EA3D83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2A24-1BD3-46DB-B0C1-CF5616DA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3771-D684-4B38-87B0-1548177D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B97D-0016-4534-B753-7C587EBE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48C4-83F0-4D63-A09E-CDF81343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51D2-8735-46F7-A410-BF4BFE37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F3B1-D706-4CEB-BEEF-236294E58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4.gif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image" Target="../media/image8.gif"/><Relationship Id="rId10" Type="http://schemas.openxmlformats.org/officeDocument/2006/relationships/image" Target="../media/image9.gif"/><Relationship Id="rId11" Type="http://schemas.openxmlformats.org/officeDocument/2006/relationships/image" Target="../media/image8.gif"/><Relationship Id="rId12" Type="http://schemas.openxmlformats.org/officeDocument/2006/relationships/image" Target="../media/image6.gif"/><Relationship Id="rId13" Type="http://schemas.openxmlformats.org/officeDocument/2006/relationships/image" Target="../media/image10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2.gif"/><Relationship Id="rId19" Type="http://schemas.openxmlformats.org/officeDocument/2006/relationships/image" Target="../media/image13.gif"/><Relationship Id="rId20" Type="http://schemas.openxmlformats.org/officeDocument/2006/relationships/image" Target="../media/image14.gif"/><Relationship Id="rId21" Type="http://schemas.openxmlformats.org/officeDocument/2006/relationships/image" Target="../media/image15.gif"/><Relationship Id="rId22" Type="http://schemas.openxmlformats.org/officeDocument/2006/relationships/image" Target="../media/image15.gif"/><Relationship Id="rId23" Type="http://schemas.openxmlformats.org/officeDocument/2006/relationships/image" Target="../media/image16.gif"/><Relationship Id="rId24" Type="http://schemas.openxmlformats.org/officeDocument/2006/relationships/image" Target="../media/image17.gif"/><Relationship Id="rId25" Type="http://schemas.openxmlformats.org/officeDocument/2006/relationships/image" Target="../media/image18.gif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ite.voila.fr/abrahammazel" TargetMode="External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1222560" cy="1828800"/>
          </a:xfrm>
          <a:prstGeom prst="rect">
            <a:avLst/>
          </a:prstGeom>
          <a:ln w="0">
            <a:noFill/>
          </a:ln>
        </p:spPr>
      </p:pic>
      <p:pic>
        <p:nvPicPr>
          <p:cNvPr id="42" name="ASSOCIATION" descr=""/>
          <p:cNvPicPr/>
          <p:nvPr/>
        </p:nvPicPr>
        <p:blipFill>
          <a:blip r:embed="rId3"/>
          <a:stretch/>
        </p:blipFill>
        <p:spPr>
          <a:xfrm>
            <a:off x="1725480" y="2479680"/>
            <a:ext cx="5693040" cy="18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assemblee%202" descr=""/>
          <p:cNvPicPr/>
          <p:nvPr/>
        </p:nvPicPr>
        <p:blipFill>
          <a:blip r:embed="rId2"/>
          <a:stretch/>
        </p:blipFill>
        <p:spPr>
          <a:xfrm>
            <a:off x="1295280" y="6094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assemblee" descr=""/>
          <p:cNvPicPr/>
          <p:nvPr/>
        </p:nvPicPr>
        <p:blipFill>
          <a:blip r:embed="rId3"/>
          <a:stretch/>
        </p:blipFill>
        <p:spPr>
          <a:xfrm>
            <a:off x="1371600" y="3733920"/>
            <a:ext cx="2590920" cy="1942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191120" y="685800"/>
            <a:ext cx="4190760" cy="27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PROGRAMME PROVISOIRE RUPTURES/ENGAGEMENTS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IXèmes Rencontres Mazel – Eté -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-1 &amp; 2 juillet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«Musiques de rupture/engagement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Samedi matin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Robert WEEDA: «Ruptures/Engagements : témoignages en musique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Christine DOUSSET: «Bertrand BARERE, révolutionnaire, membre du Salut Public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assemblee%202" descr=""/>
          <p:cNvPicPr/>
          <p:nvPr/>
        </p:nvPicPr>
        <p:blipFill>
          <a:blip r:embed="rId2"/>
          <a:stretch/>
        </p:blipFill>
        <p:spPr>
          <a:xfrm>
            <a:off x="1295280" y="6094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91" name="assemblee" descr=""/>
          <p:cNvPicPr/>
          <p:nvPr/>
        </p:nvPicPr>
        <p:blipFill>
          <a:blip r:embed="rId3"/>
          <a:stretch/>
        </p:blipFill>
        <p:spPr>
          <a:xfrm>
            <a:off x="1371600" y="3733920"/>
            <a:ext cx="2590920" cy="1942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191120" y="685800"/>
            <a:ext cx="4190760" cy="46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PROGRAMME PROVISOIRE RUPTURES/ENGAGEMENTS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IXèmes Rencontres Mazel – Eté -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-1 &amp; 2 juillet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«Musiques de rupture/engagement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Samedi matin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Robert WEEDA: «Ruptures/Engagements : témoignages en musique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Christine DOUSSET: «Bertrand BARERE, révolutionnaire, membre du Salut Public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Samedi après-midi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Philippe FORO: «Diversités de ruptures et d’engagements: regards croisés sur quatre parcours italiens à l’époque fasciste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Horst GÜNTHER: «Discours de la servitude volontaire- Histoire d’une pensée anarchiste du temps de Montaigne jusqu’au temps présent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assemblee%202" descr=""/>
          <p:cNvPicPr/>
          <p:nvPr/>
        </p:nvPicPr>
        <p:blipFill>
          <a:blip r:embed="rId2"/>
          <a:stretch/>
        </p:blipFill>
        <p:spPr>
          <a:xfrm>
            <a:off x="1295280" y="6094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94" name="assemblee" descr=""/>
          <p:cNvPicPr/>
          <p:nvPr/>
        </p:nvPicPr>
        <p:blipFill>
          <a:blip r:embed="rId3"/>
          <a:stretch/>
        </p:blipFill>
        <p:spPr>
          <a:xfrm>
            <a:off x="1371600" y="3733920"/>
            <a:ext cx="2590920" cy="1942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191120" y="685800"/>
            <a:ext cx="4190760" cy="46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PROGRAMME PROVISOIRE RUPTURES/ENGAGEMENTS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IXèmes Rencontres Mazel – Eté -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-1 &amp; 2 juillet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«Musiques de rupture/engagement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Samedi matin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Robert WEEDA: «Ruptures/Engagements : témoignages en musique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Christine DOUSSET: «Bertrand BARERE, révolutionnaire, membre du Salut Public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Samedi après-midi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Philippe FORO: «Diversités de ruptures et d’engagements: regards croisés sur quatre parcours italiens à l’époque fasciste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Horst GÜNTHER: «Discours de la servitude volontaire- Histoire d’une pensée anarchiste du temps de Montaigne jusqu’au temps présent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assemblee%202" descr=""/>
          <p:cNvPicPr/>
          <p:nvPr/>
        </p:nvPicPr>
        <p:blipFill>
          <a:blip r:embed="rId2"/>
          <a:stretch/>
        </p:blipFill>
        <p:spPr>
          <a:xfrm>
            <a:off x="1295280" y="6094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97" name="assemblee" descr=""/>
          <p:cNvPicPr/>
          <p:nvPr/>
        </p:nvPicPr>
        <p:blipFill>
          <a:blip r:embed="rId3"/>
          <a:stretch/>
        </p:blipFill>
        <p:spPr>
          <a:xfrm>
            <a:off x="1371600" y="3733920"/>
            <a:ext cx="2590920" cy="194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191120" y="685800"/>
            <a:ext cx="4190760" cy="20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PROGRAMME PROVISOIRE RUPTURES/ENGAGEMENTS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IXèmes Rencontres Mazel – Eté -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Dimanche matin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Brita REIMERS: « Alma de l’Aigle, pédagogue sous le III° Reich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assemblee%202" descr=""/>
          <p:cNvPicPr/>
          <p:nvPr/>
        </p:nvPicPr>
        <p:blipFill>
          <a:blip r:embed="rId2"/>
          <a:stretch/>
        </p:blipFill>
        <p:spPr>
          <a:xfrm>
            <a:off x="1295280" y="6094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00" name="assemblee" descr=""/>
          <p:cNvPicPr/>
          <p:nvPr/>
        </p:nvPicPr>
        <p:blipFill>
          <a:blip r:embed="rId3"/>
          <a:stretch/>
        </p:blipFill>
        <p:spPr>
          <a:xfrm>
            <a:off x="1371600" y="3733920"/>
            <a:ext cx="2590920" cy="1942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191120" y="685800"/>
            <a:ext cx="4190760" cy="25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PROGRAMME PROVISOIRE RUPTURES/ENGAGEMENTS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IXèmes Rencontres Mazel – Eté -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Dimanche matin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Brita REIMERS: « Alma de l’Aigle, pédagogue sous le III° Reich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Aleth BRIAT: « Ruptures/Engagements: de l’Etat français à la Résistance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ssemblee%202" descr=""/>
          <p:cNvPicPr/>
          <p:nvPr/>
        </p:nvPicPr>
        <p:blipFill>
          <a:blip r:embed="rId2"/>
          <a:stretch/>
        </p:blipFill>
        <p:spPr>
          <a:xfrm>
            <a:off x="1295280" y="6094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03" name="assemblee" descr=""/>
          <p:cNvPicPr/>
          <p:nvPr/>
        </p:nvPicPr>
        <p:blipFill>
          <a:blip r:embed="rId3"/>
          <a:stretch/>
        </p:blipFill>
        <p:spPr>
          <a:xfrm>
            <a:off x="1371600" y="3733920"/>
            <a:ext cx="2590920" cy="1942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191120" y="685800"/>
            <a:ext cx="419076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PROGRAMME PROVISOIRE RUPTURES/ENGAGEMENTS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IXèmes Rencontres Mazel – Eté -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Dimanche matin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Brita REIMERS: « Alma de l’Aigle, pédagogue sous le III° Reich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Aleth BRIAT: « Ruptures/Engagements: de l’Etat français à la Résistance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Dimanche après-mi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Horsta KRUM: «Dietrich BONHOEFFER, sa vie, ses œuvres, ses relations avec le français Jean LASSERRE et le suisse Karl BARTH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assemblee%202" descr=""/>
          <p:cNvPicPr/>
          <p:nvPr/>
        </p:nvPicPr>
        <p:blipFill>
          <a:blip r:embed="rId2"/>
          <a:stretch/>
        </p:blipFill>
        <p:spPr>
          <a:xfrm>
            <a:off x="1295280" y="6094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06" name="assemblee" descr=""/>
          <p:cNvPicPr/>
          <p:nvPr/>
        </p:nvPicPr>
        <p:blipFill>
          <a:blip r:embed="rId3"/>
          <a:stretch/>
        </p:blipFill>
        <p:spPr>
          <a:xfrm>
            <a:off x="1371600" y="3733920"/>
            <a:ext cx="2590920" cy="1942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191120" y="685800"/>
            <a:ext cx="4190760" cy="51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PROGRAMME PROVISOIRE RUPTURES/ENGAGEMENTS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IXèmes Rencontres Mazel – Eté -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Dimanche matin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Brita REIMERS: « Alma de l’Aigle, pédagogue sous le III° Reich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Aleth BRIAT: « Ruptures/Engagements: de l’Etat français à la Résistance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Dimanche après-mi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Horsta KRUM: «Dietrich BONHOEFFER, sa vie, ses œuvres, ses relations avec le français Jean LASSERRE et le suisse Karl BARTH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Table-ronde:Témoignages de Ruptures/Engagements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Eckart BIRNSTIEL (68- sur le pavé de Berlin, loin de la plage), Pierre PEGUIN (de l’université aux Cévennes), Serge ROBERT (ruptures inutiles et dangereuses dans l’Europe d’aujourd’hui: pour une lecture apaisée des textes religieux fondamentaux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assemblee%202" descr=""/>
          <p:cNvPicPr/>
          <p:nvPr/>
        </p:nvPicPr>
        <p:blipFill>
          <a:blip r:embed="rId2"/>
          <a:stretch/>
        </p:blipFill>
        <p:spPr>
          <a:xfrm>
            <a:off x="1295280" y="6094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09" name="assemblee" descr=""/>
          <p:cNvPicPr/>
          <p:nvPr/>
        </p:nvPicPr>
        <p:blipFill>
          <a:blip r:embed="rId3"/>
          <a:stretch/>
        </p:blipFill>
        <p:spPr>
          <a:xfrm>
            <a:off x="1371600" y="3733920"/>
            <a:ext cx="2590920" cy="1942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191120" y="685800"/>
            <a:ext cx="4190760" cy="57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PROGRAMME PROVISOIRE RUPTURES/ENGAGEMENTS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IXèmes Rencontres Mazel – Eté -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Dimanche matin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Brita REIMERS: « Alma de l’Aigle, pédagogue sous le III° Reich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Aleth BRIAT: « Ruptures/Engagements: de l’Etat français à la Résistance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Dimanche après-mi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Horsta KRUM: «Dietrich BONHOEFFER, sa vie, ses œuvres, ses relations avec le français Jean LASSERRE et le suisse Karl BARTH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Table-ronde:Témoignages de Ruptures/Engagements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Eckart BIRNSTIEL (68- sur le pavé de Berlin, loin de la plage), Pierre PEGUIN (de l’université aux Cévennes), Serge ROBERT (ruptures inutiles et dangereuses dans l’Europe d’aujourd’hui: pour une lecture apaisée des textes religieux fondamentaux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EXPOSITION: CATER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assemblee%202" descr=""/>
          <p:cNvPicPr/>
          <p:nvPr/>
        </p:nvPicPr>
        <p:blipFill>
          <a:blip r:embed="rId2"/>
          <a:stretch/>
        </p:blipFill>
        <p:spPr>
          <a:xfrm>
            <a:off x="1295280" y="6094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assemblee" descr=""/>
          <p:cNvPicPr/>
          <p:nvPr/>
        </p:nvPicPr>
        <p:blipFill>
          <a:blip r:embed="rId3"/>
          <a:stretch/>
        </p:blipFill>
        <p:spPr>
          <a:xfrm>
            <a:off x="1371600" y="3733920"/>
            <a:ext cx="2590920" cy="1942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191120" y="685800"/>
            <a:ext cx="4190760" cy="69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PROGRAMME PROVISOIRE RUPTURES/ENGAGEMENTS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IXèmes Rencontres Mazel – Eté -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Vendredi 30 juin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Robert WEEDA – Stage de chant choral Maison Mazel: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"Les psaumes : musiques de rupture/engagement"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Participation à la soiré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- Soirée : 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Présentation des Rencontres Mazel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Conférence Chrystel BERNAT et Pauline DULEY-HAOURS: «Du Désert de sang au Désert de non-violence – Antoine Court à rebours de l’Insurrection des Enfants de Dieu»- Présenté par Chrystel BERNAT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Participation de la chorale (dir.Robert Weeda)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Col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-1 &amp; 2 juillet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«Musiques de rupture/engagement»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Samedi matin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Robert WEEDA: «Ruptures/Engagements : témoignages en musique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Christine DOUSSET: «Bertrand BARERE, révolutionnaire, membre du Salut Public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Samedi après-midi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Philippe FORO: «Diversités de ruptures et d’engagements: regards croisés sur quatre parcours italiens à l’époque fasciste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Horst GÜNTHER: «Discours de la servitude volontaire- Histoire d’une pensée anarchiste du temps de Montaigne jusqu’au temps présent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Dimanche matin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Brita REIMERS: « Alma de l’Aigle, pédagogue sous le III° Reich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Aleth BRIAT: « Ruptures/Engagements: de l’Etat français à la Résistance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Dimanche après-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Horsta KRUM: «Dietrich BONHOEFFER, sa vie, ses œuvres, ses relations avec le français Jean LASSERRE et le suisse Karl BARTH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Table-ronde:Témoignages de Ruptures/Engagements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Eckart BIRNSTIEL (68- sur le pavé de Berlin, loin de la plage), Pierre PEGUIN (de l’université aux Cévennes), Serge ROBERT (ruptures inutiles et dangereuses dans l’Europe d’aujourd’hui: pour une lecture apaisée des textes religieux fondamentaux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EXPOSITION: CATER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assemblee%202" descr=""/>
          <p:cNvPicPr/>
          <p:nvPr/>
        </p:nvPicPr>
        <p:blipFill>
          <a:blip r:embed="rId2"/>
          <a:stretch/>
        </p:blipFill>
        <p:spPr>
          <a:xfrm>
            <a:off x="1295280" y="6094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15" name="assemblee" descr=""/>
          <p:cNvPicPr/>
          <p:nvPr/>
        </p:nvPicPr>
        <p:blipFill>
          <a:blip r:embed="rId3"/>
          <a:stretch/>
        </p:blipFill>
        <p:spPr>
          <a:xfrm>
            <a:off x="1371600" y="3733920"/>
            <a:ext cx="2590920" cy="1942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191120" y="685800"/>
            <a:ext cx="4190760" cy="69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PROGRAMME PROVISOIRE RUPTURES/ENGAGEMENTS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IXèmes Rencontres Mazel – Eté -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Vendredi 30 juin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Robert WEEDA – Stage de chant choral Maison Mazel: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"Les psaumes : musiques de rupture/engagement"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Participation à la soiré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- Soirée : 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Présentation des Rencontres Mazel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Conférence Chrystel BERNAT et Pauline DULEY-HAOURS: «Du Désert de sang au Désert de non-violence – Antoine Court à rebours de l’Insurrection des Enfants de Dieu»- Présenté par Chrystel BERNAT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Participation de la chorale (dir.Robert Weeda)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Col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-1 &amp; 2 juillet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«Musiques de rupture/engagement»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Samedi matin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Robert WEEDA: «Ruptures/Engagements : témoignages en musique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Christine DOUSSET: «Bertrand BARERE, révolutionnaire, membre du Salut Public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Samedi après-midi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Philippe FORO: «Diversités de ruptures et d’engagements: regards croisés sur quatre parcours italiens à l’époque fasciste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Horst GÜNTHER: «Discours de la servitude volontaire- Histoire d’une pensée anarchiste du temps de Montaigne jusqu’au temps présent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Dimanche matin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Brita REIMERS: « Alma de l’Aigle, pédagogue sous le III° Reich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Aleth BRIAT: « Ruptures/Engagements: de l’Etat français à la Résistance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Dimanche après-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Horsta KRUM: «Dietrich BONHOEFFER, sa vie, ses œuvres, ses relations avec le français Jean LASSERRE et le suisse Karl BARTH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Table-ronde:Témoignages de Ruptures/Engagements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Eckart BIRNSTIEL (68- sur le pavé de Berlin, loin de la plage), Pierre PEGUIN (de l’université aux Cévennes), Serge ROBERT (ruptures inutiles et dangereuses dans l’Europe d’aujourd’hui: pour une lecture apaisée des textes religieux fondamentaux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EXPOSITION: CATER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logo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122256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jaune_a" descr=""/>
          <p:cNvPicPr/>
          <p:nvPr/>
        </p:nvPicPr>
        <p:blipFill>
          <a:blip r:embed="rId3"/>
          <a:stretch/>
        </p:blipFill>
        <p:spPr>
          <a:xfrm>
            <a:off x="1981080" y="457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5" name="jaune_s" descr=""/>
          <p:cNvPicPr/>
          <p:nvPr/>
        </p:nvPicPr>
        <p:blipFill>
          <a:blip r:embed="rId4"/>
          <a:stretch/>
        </p:blipFill>
        <p:spPr>
          <a:xfrm>
            <a:off x="2666880" y="457200"/>
            <a:ext cx="549360" cy="685800"/>
          </a:xfrm>
          <a:prstGeom prst="rect">
            <a:avLst/>
          </a:prstGeom>
          <a:ln w="0">
            <a:noFill/>
          </a:ln>
        </p:spPr>
      </p:pic>
      <p:pic>
        <p:nvPicPr>
          <p:cNvPr id="46" name="jaune_s" descr=""/>
          <p:cNvPicPr/>
          <p:nvPr/>
        </p:nvPicPr>
        <p:blipFill>
          <a:blip r:embed="rId5"/>
          <a:stretch/>
        </p:blipFill>
        <p:spPr>
          <a:xfrm>
            <a:off x="3200400" y="457200"/>
            <a:ext cx="549360" cy="685800"/>
          </a:xfrm>
          <a:prstGeom prst="rect">
            <a:avLst/>
          </a:prstGeom>
          <a:ln w="0">
            <a:noFill/>
          </a:ln>
        </p:spPr>
      </p:pic>
      <p:pic>
        <p:nvPicPr>
          <p:cNvPr id="47" name="jaune_a" descr=""/>
          <p:cNvPicPr/>
          <p:nvPr/>
        </p:nvPicPr>
        <p:blipFill>
          <a:blip r:embed="rId6"/>
          <a:stretch/>
        </p:blipFill>
        <p:spPr>
          <a:xfrm>
            <a:off x="5257800" y="457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8" name="jaune_o" descr=""/>
          <p:cNvPicPr/>
          <p:nvPr/>
        </p:nvPicPr>
        <p:blipFill>
          <a:blip r:embed="rId7"/>
          <a:stretch/>
        </p:blipFill>
        <p:spPr>
          <a:xfrm>
            <a:off x="3733920" y="457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9" name="jaune_c" descr=""/>
          <p:cNvPicPr/>
          <p:nvPr/>
        </p:nvPicPr>
        <p:blipFill>
          <a:blip r:embed="rId8"/>
          <a:stretch/>
        </p:blipFill>
        <p:spPr>
          <a:xfrm>
            <a:off x="4343400" y="457200"/>
            <a:ext cx="593640" cy="685800"/>
          </a:xfrm>
          <a:prstGeom prst="rect">
            <a:avLst/>
          </a:prstGeom>
          <a:ln w="0">
            <a:noFill/>
          </a:ln>
        </p:spPr>
      </p:pic>
      <p:pic>
        <p:nvPicPr>
          <p:cNvPr id="50" name="jaune_i" descr=""/>
          <p:cNvPicPr/>
          <p:nvPr/>
        </p:nvPicPr>
        <p:blipFill>
          <a:blip r:embed="rId9"/>
          <a:stretch/>
        </p:blipFill>
        <p:spPr>
          <a:xfrm>
            <a:off x="4952880" y="457200"/>
            <a:ext cx="22860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jaune_t" descr=""/>
          <p:cNvPicPr/>
          <p:nvPr/>
        </p:nvPicPr>
        <p:blipFill>
          <a:blip r:embed="rId10"/>
          <a:stretch/>
        </p:blipFill>
        <p:spPr>
          <a:xfrm>
            <a:off x="5867280" y="533520"/>
            <a:ext cx="549360" cy="685800"/>
          </a:xfrm>
          <a:prstGeom prst="rect">
            <a:avLst/>
          </a:prstGeom>
          <a:ln w="0">
            <a:noFill/>
          </a:ln>
        </p:spPr>
      </p:pic>
      <p:pic>
        <p:nvPicPr>
          <p:cNvPr id="52" name="jaune_i" descr=""/>
          <p:cNvPicPr/>
          <p:nvPr/>
        </p:nvPicPr>
        <p:blipFill>
          <a:blip r:embed="rId11"/>
          <a:stretch/>
        </p:blipFill>
        <p:spPr>
          <a:xfrm>
            <a:off x="6400800" y="533520"/>
            <a:ext cx="228600" cy="685800"/>
          </a:xfrm>
          <a:prstGeom prst="rect">
            <a:avLst/>
          </a:prstGeom>
          <a:ln w="0">
            <a:noFill/>
          </a:ln>
        </p:spPr>
      </p:pic>
      <p:pic>
        <p:nvPicPr>
          <p:cNvPr id="53" name="jaune_o" descr=""/>
          <p:cNvPicPr/>
          <p:nvPr/>
        </p:nvPicPr>
        <p:blipFill>
          <a:blip r:embed="rId12"/>
          <a:stretch/>
        </p:blipFill>
        <p:spPr>
          <a:xfrm>
            <a:off x="6629400" y="533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4" name="jaune_n" descr=""/>
          <p:cNvPicPr/>
          <p:nvPr/>
        </p:nvPicPr>
        <p:blipFill>
          <a:blip r:embed="rId13"/>
          <a:stretch/>
        </p:blipFill>
        <p:spPr>
          <a:xfrm>
            <a:off x="7238880" y="533520"/>
            <a:ext cx="549360" cy="685800"/>
          </a:xfrm>
          <a:prstGeom prst="rect">
            <a:avLst/>
          </a:prstGeom>
          <a:ln w="0">
            <a:noFill/>
          </a:ln>
        </p:spPr>
      </p:pic>
      <p:pic>
        <p:nvPicPr>
          <p:cNvPr id="55" name="lettres_soleil_couchant_a" descr=""/>
          <p:cNvPicPr/>
          <p:nvPr/>
        </p:nvPicPr>
        <p:blipFill>
          <a:blip r:embed="rId14"/>
          <a:stretch/>
        </p:blipFill>
        <p:spPr>
          <a:xfrm>
            <a:off x="914400" y="2133720"/>
            <a:ext cx="822240" cy="1523880"/>
          </a:xfrm>
          <a:prstGeom prst="rect">
            <a:avLst/>
          </a:prstGeom>
          <a:ln w="0">
            <a:noFill/>
          </a:ln>
        </p:spPr>
      </p:pic>
      <p:pic>
        <p:nvPicPr>
          <p:cNvPr id="56" name="lettres_soleil_couchant_a" descr=""/>
          <p:cNvPicPr/>
          <p:nvPr/>
        </p:nvPicPr>
        <p:blipFill>
          <a:blip r:embed="rId15"/>
          <a:stretch/>
        </p:blipFill>
        <p:spPr>
          <a:xfrm>
            <a:off x="3276720" y="1295280"/>
            <a:ext cx="614160" cy="2971800"/>
          </a:xfrm>
          <a:prstGeom prst="rect">
            <a:avLst/>
          </a:prstGeom>
          <a:ln w="0">
            <a:noFill/>
          </a:ln>
        </p:spPr>
      </p:pic>
      <p:pic>
        <p:nvPicPr>
          <p:cNvPr id="57" name="lettres_soleil_couchant_a" descr=""/>
          <p:cNvPicPr/>
          <p:nvPr/>
        </p:nvPicPr>
        <p:blipFill>
          <a:blip r:embed="rId16"/>
          <a:stretch/>
        </p:blipFill>
        <p:spPr>
          <a:xfrm>
            <a:off x="4724280" y="1295280"/>
            <a:ext cx="630360" cy="3048120"/>
          </a:xfrm>
          <a:prstGeom prst="rect">
            <a:avLst/>
          </a:prstGeom>
          <a:ln w="0">
            <a:noFill/>
          </a:ln>
        </p:spPr>
      </p:pic>
      <p:pic>
        <p:nvPicPr>
          <p:cNvPr id="58" name="lettres_soleil_couchant_a" descr=""/>
          <p:cNvPicPr/>
          <p:nvPr/>
        </p:nvPicPr>
        <p:blipFill>
          <a:blip r:embed="rId17"/>
          <a:stretch/>
        </p:blipFill>
        <p:spPr>
          <a:xfrm>
            <a:off x="5257800" y="3124080"/>
            <a:ext cx="723960" cy="3505320"/>
          </a:xfrm>
          <a:prstGeom prst="rect">
            <a:avLst/>
          </a:prstGeom>
          <a:ln w="0">
            <a:noFill/>
          </a:ln>
        </p:spPr>
      </p:pic>
      <p:pic>
        <p:nvPicPr>
          <p:cNvPr id="59" name="lettres_soleil_couchant_b" descr=""/>
          <p:cNvPicPr/>
          <p:nvPr/>
        </p:nvPicPr>
        <p:blipFill>
          <a:blip r:embed="rId18"/>
          <a:stretch/>
        </p:blipFill>
        <p:spPr>
          <a:xfrm>
            <a:off x="1676520" y="1600200"/>
            <a:ext cx="981000" cy="1676520"/>
          </a:xfrm>
          <a:prstGeom prst="rect">
            <a:avLst/>
          </a:prstGeom>
          <a:ln w="0">
            <a:noFill/>
          </a:ln>
        </p:spPr>
      </p:pic>
      <p:pic>
        <p:nvPicPr>
          <p:cNvPr id="60" name="lettres_soleil_couchant_r" descr=""/>
          <p:cNvPicPr/>
          <p:nvPr/>
        </p:nvPicPr>
        <p:blipFill>
          <a:blip r:embed="rId19"/>
          <a:stretch/>
        </p:blipFill>
        <p:spPr>
          <a:xfrm>
            <a:off x="2666880" y="2133720"/>
            <a:ext cx="628920" cy="1371600"/>
          </a:xfrm>
          <a:prstGeom prst="rect">
            <a:avLst/>
          </a:prstGeom>
          <a:ln w="0">
            <a:noFill/>
          </a:ln>
        </p:spPr>
      </p:pic>
      <p:pic>
        <p:nvPicPr>
          <p:cNvPr id="61" name="lettres_soleil_couchant_h" descr=""/>
          <p:cNvPicPr/>
          <p:nvPr/>
        </p:nvPicPr>
        <p:blipFill>
          <a:blip r:embed="rId20"/>
          <a:stretch/>
        </p:blipFill>
        <p:spPr>
          <a:xfrm>
            <a:off x="3962520" y="1981080"/>
            <a:ext cx="74124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lettres_soleil_couchant_m" descr=""/>
          <p:cNvPicPr/>
          <p:nvPr/>
        </p:nvPicPr>
        <p:blipFill>
          <a:blip r:embed="rId21"/>
          <a:stretch/>
        </p:blipFill>
        <p:spPr>
          <a:xfrm>
            <a:off x="5486400" y="259092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lettres_soleil_couchant_m" descr=""/>
          <p:cNvPicPr/>
          <p:nvPr/>
        </p:nvPicPr>
        <p:blipFill>
          <a:blip r:embed="rId22"/>
          <a:stretch/>
        </p:blipFill>
        <p:spPr>
          <a:xfrm>
            <a:off x="3886200" y="4114800"/>
            <a:ext cx="120636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lettres_soleil_couchant_z" descr=""/>
          <p:cNvPicPr/>
          <p:nvPr/>
        </p:nvPicPr>
        <p:blipFill>
          <a:blip r:embed="rId23"/>
          <a:stretch/>
        </p:blipFill>
        <p:spPr>
          <a:xfrm>
            <a:off x="6019920" y="3505320"/>
            <a:ext cx="495360" cy="2819160"/>
          </a:xfrm>
          <a:prstGeom prst="rect">
            <a:avLst/>
          </a:prstGeom>
          <a:ln w="0">
            <a:noFill/>
          </a:ln>
        </p:spPr>
      </p:pic>
      <p:pic>
        <p:nvPicPr>
          <p:cNvPr id="65" name="lettres_soleil_couchant_e" descr=""/>
          <p:cNvPicPr/>
          <p:nvPr/>
        </p:nvPicPr>
        <p:blipFill>
          <a:blip r:embed="rId24"/>
          <a:stretch/>
        </p:blipFill>
        <p:spPr>
          <a:xfrm>
            <a:off x="6629400" y="4114800"/>
            <a:ext cx="638280" cy="1981080"/>
          </a:xfrm>
          <a:prstGeom prst="rect">
            <a:avLst/>
          </a:prstGeom>
          <a:ln w="0">
            <a:noFill/>
          </a:ln>
        </p:spPr>
      </p:pic>
      <p:pic>
        <p:nvPicPr>
          <p:cNvPr id="66" name="lettres_soleil_couchant_l" descr=""/>
          <p:cNvPicPr/>
          <p:nvPr/>
        </p:nvPicPr>
        <p:blipFill>
          <a:blip r:embed="rId25"/>
          <a:stretch/>
        </p:blipFill>
        <p:spPr>
          <a:xfrm>
            <a:off x="7315200" y="3505320"/>
            <a:ext cx="114300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assemblee%202" descr=""/>
          <p:cNvPicPr/>
          <p:nvPr/>
        </p:nvPicPr>
        <p:blipFill>
          <a:blip r:embed="rId2"/>
          <a:stretch/>
        </p:blipFill>
        <p:spPr>
          <a:xfrm>
            <a:off x="1295280" y="6094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18" name="assemblee" descr=""/>
          <p:cNvPicPr/>
          <p:nvPr/>
        </p:nvPicPr>
        <p:blipFill>
          <a:blip r:embed="rId3"/>
          <a:stretch/>
        </p:blipFill>
        <p:spPr>
          <a:xfrm>
            <a:off x="1371600" y="3733920"/>
            <a:ext cx="2590920" cy="1942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191120" y="685800"/>
            <a:ext cx="4190760" cy="69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PROGRAMME PROVISOIRE RUPTURES/ENGAGEMENTS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IXèmes Rencontres Mazel – Eté -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Vendredi 30 juin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Robert WEEDA – Stage de chant choral Maison Mazel: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"Les psaumes : musiques de rupture/engagement"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Participation à la soiré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- Soirée : 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Présentation des Rencontres Mazel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Conférence Chrystel BERNAT et Pauline DULEY-HAOURS: «Du Désert de sang au Désert de non-violence – Antoine Court à rebours de l’Insurrection des Enfants de Dieu»- Présenté par Chrystel BERNAT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Participation de la chorale (dir.Robert Weeda)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Col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-1 &amp; 2 juillet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«Musiques de rupture/engagement»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Samedi matin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Robert WEEDA: «Ruptures/Engagements : témoignages en musique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Christine DOUSSET: «Bertrand BARERE, révolutionnaire, membre du Salut Public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Samedi après-midi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Philippe FORO: «Diversités de ruptures et d’engagements: regards croisés sur quatre parcours italiens à l’époque fasciste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Horst GÜNTHER: «Discours de la servitude volontaire- Histoire d’une pensée anarchiste du temps de Montaigne jusqu’au temps présent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Dimanche matin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Brita REIMERS: « Alma de l’Aigle, pédagogue sous le III° Reich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Aleth BRIAT: « Ruptures/Engagements: de l’Etat français à la Résistance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Dimanche après-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Horsta KRUM: «Dietrich BONHOEFFER, sa vie, ses œuvres, ses relations avec le français Jean LASSERRE et le suisse Karl BARTH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Table-ronde:Témoignages de Ruptures/Engagements</a:t>
            </a:r>
            <a:br>
              <a:rPr sz="1000"/>
            </a:b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Eckart BIRNSTIEL (68- sur le pavé de Berlin, loin de la plage), Pierre PEGUIN (de l’université aux Cévennes), Serge ROBERT (ruptures inutiles et dangereuses dans l’Europe d’aujourd’hui: pour une lecture apaisée des textes religieux fondamentaux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99"/>
                </a:solidFill>
                <a:latin typeface="Arial Narrow"/>
              </a:rPr>
              <a:t>EXPOSITION: CATER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 amis à l’écoute sous un cerisier dialoguent, échange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’enrichissent mutuellement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assemblee" descr=""/>
          <p:cNvPicPr/>
          <p:nvPr/>
        </p:nvPicPr>
        <p:blipFill>
          <a:blip r:embed="rId2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 amis à l’écoute sous un cerisier dialoguent, échange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’enrichissent mutuellement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assemblee%202" descr=""/>
          <p:cNvPicPr/>
          <p:nvPr/>
        </p:nvPicPr>
        <p:blipFill>
          <a:blip r:embed="rId2"/>
          <a:stretch/>
        </p:blipFill>
        <p:spPr>
          <a:xfrm>
            <a:off x="104760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casse%20croute%20philo" descr=""/>
          <p:cNvPicPr/>
          <p:nvPr/>
        </p:nvPicPr>
        <p:blipFill>
          <a:blip r:embed="rId2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Arial Black"/>
              </a:rPr>
              <a:t>Ceci est un essai de police &amp; de coule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maison%20vue%20générale" descr=""/>
          <p:cNvPicPr/>
          <p:nvPr/>
        </p:nvPicPr>
        <p:blipFill>
          <a:blip r:embed="rId2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Essai de texte &amp; de coul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maison%20mazel" descr=""/>
          <p:cNvPicPr/>
          <p:nvPr/>
        </p:nvPicPr>
        <p:blipFill>
          <a:blip r:embed="rId2"/>
          <a:stretch/>
        </p:blipFill>
        <p:spPr>
          <a:xfrm>
            <a:off x="685800" y="2357280"/>
            <a:ext cx="3809880" cy="3360960"/>
          </a:xfrm>
          <a:prstGeom prst="rect">
            <a:avLst/>
          </a:prstGeom>
          <a:ln w="0">
            <a:noFill/>
          </a:ln>
        </p:spPr>
      </p:pic>
      <p:pic>
        <p:nvPicPr>
          <p:cNvPr id="135" name="logo" descr=""/>
          <p:cNvPicPr/>
          <p:nvPr/>
        </p:nvPicPr>
        <p:blipFill>
          <a:blip r:embed="rId3"/>
          <a:stretch/>
        </p:blipFill>
        <p:spPr>
          <a:xfrm>
            <a:off x="685800" y="609480"/>
            <a:ext cx="7635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866920" y="1905120"/>
            <a:ext cx="266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Essai de texte &amp; de coul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maison%20mazel" descr=""/>
          <p:cNvPicPr/>
          <p:nvPr/>
        </p:nvPicPr>
        <p:blipFill>
          <a:blip r:embed="rId2"/>
          <a:stretch/>
        </p:blipFill>
        <p:spPr>
          <a:xfrm>
            <a:off x="228600" y="1951200"/>
            <a:ext cx="5562720" cy="4906800"/>
          </a:xfrm>
          <a:prstGeom prst="rect">
            <a:avLst/>
          </a:prstGeom>
          <a:ln w="0">
            <a:noFill/>
          </a:ln>
        </p:spPr>
      </p:pic>
      <p:pic>
        <p:nvPicPr>
          <p:cNvPr id="139" name="logo" descr=""/>
          <p:cNvPicPr/>
          <p:nvPr/>
        </p:nvPicPr>
        <p:blipFill>
          <a:blip r:embed="rId3"/>
          <a:stretch/>
        </p:blipFill>
        <p:spPr>
          <a:xfrm>
            <a:off x="685800" y="609480"/>
            <a:ext cx="7635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logo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122256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ASSOCIATION" descr=""/>
          <p:cNvPicPr/>
          <p:nvPr/>
        </p:nvPicPr>
        <p:blipFill>
          <a:blip r:embed="rId3"/>
          <a:stretch/>
        </p:blipFill>
        <p:spPr>
          <a:xfrm>
            <a:off x="1725480" y="2479680"/>
            <a:ext cx="5693040" cy="18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pic>
        <p:nvPicPr>
          <p:cNvPr id="150" name="assemblee%202" descr=""/>
          <p:cNvPicPr/>
          <p:nvPr/>
        </p:nvPicPr>
        <p:blipFill>
          <a:blip r:embed="rId2"/>
          <a:stretch/>
        </p:blipFill>
        <p:spPr>
          <a:xfrm>
            <a:off x="5791320" y="1752480"/>
            <a:ext cx="2743200" cy="3657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38080" y="1676520"/>
            <a:ext cx="495324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ulder"/>
              </a:rPr>
              <a:t>CES COLLOQUES (NOUS EN SOMMES AU VII°°°I° </a:t>
            </a:r>
            <a:r>
              <a:rPr b="0" lang="fr-FR" sz="2000" spc="-1" strike="noStrike" baseline="40000">
                <a:solidFill>
                  <a:srgbClr val="ffffff"/>
                </a:solidFill>
                <a:latin typeface="Boulder"/>
              </a:rPr>
              <a:t>éme</a:t>
            </a:r>
            <a:r>
              <a:rPr b="0" lang="fr-FR" sz="2000" spc="-1" strike="noStrike">
                <a:solidFill>
                  <a:srgbClr val="ffffff"/>
                </a:solidFill>
                <a:latin typeface="Boulder"/>
              </a:rPr>
              <a:t>) AUTOUR DE THEMES …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ulder"/>
              </a:rPr>
              <a:t>SONT ANIMES PAR DES UNIVERSITAIRES RECONNUS OU PAR DES SPECIALIS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ulder"/>
              </a:rPr>
              <a:t>ILS GENERENT DES INTERROGATIONS, DES APPORTS, SUSCITENT LE DIALOGUE, LE PARTAG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ulder"/>
              </a:rPr>
              <a:t>CES COLLOQUES ONT ETE ENREGISTRES.</a:t>
            </a:r>
            <a:r>
              <a:rPr b="0" lang="fr-FR" sz="2000" spc="-1" strike="noStrike">
                <a:solidFill>
                  <a:srgbClr val="ffff00"/>
                </a:solidFill>
                <a:latin typeface="Boulder"/>
              </a:rPr>
              <a:t> LA LISTE DES CONFERENCES EST DISPONIBLE AUPRES DE L’ASSO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pic>
        <p:nvPicPr>
          <p:cNvPr id="154" name="casse%20croute%20philo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962520" cy="3386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62120" y="1676520"/>
            <a:ext cx="4038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ulder"/>
              </a:rPr>
              <a:t>CHAQUE MOIS, LE PREMIER VENDREDI, UN CASSE-CROUTE PHILO REUNIT TOUS LES AMIS QUI  VEULENT ECHANGER DES IDEES, DES CONCEPTS… </a:t>
            </a:r>
            <a:r>
              <a:rPr b="0" lang="en-US" sz="2400" spc="-1" strike="noStrike">
                <a:solidFill>
                  <a:srgbClr val="ffff66"/>
                </a:solidFill>
                <a:latin typeface="Boulder"/>
              </a:rPr>
              <a:t>DES RÊVES ?</a:t>
            </a:r>
            <a:r>
              <a:rPr b="0" lang="en-US" sz="2400" spc="-1" strike="noStrike">
                <a:solidFill>
                  <a:srgbClr val="ffffff"/>
                </a:solidFill>
                <a:latin typeface="Boulder"/>
              </a:rPr>
              <a:t> DANS LA CONVIVIALITE ET LA CHALEUR DU COIN DE LA CHEMINE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pic>
        <p:nvPicPr>
          <p:cNvPr id="158" name="4°RENCONTRES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21654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pic>
        <p:nvPicPr>
          <p:cNvPr id="161" name="4°RENCONTRES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2165400" cy="4753080"/>
          </a:xfrm>
          <a:prstGeom prst="rect">
            <a:avLst/>
          </a:prstGeom>
          <a:ln w="0">
            <a:noFill/>
          </a:ln>
        </p:spPr>
      </p:pic>
      <p:pic>
        <p:nvPicPr>
          <p:cNvPr id="162" name="5°RENCONTRES" descr=""/>
          <p:cNvPicPr/>
          <p:nvPr/>
        </p:nvPicPr>
        <p:blipFill>
          <a:blip r:embed="rId3"/>
          <a:stretch/>
        </p:blipFill>
        <p:spPr>
          <a:xfrm>
            <a:off x="1828800" y="1523880"/>
            <a:ext cx="2239920" cy="47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pic>
        <p:nvPicPr>
          <p:cNvPr id="165" name="4°RENCONTRES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2165400" cy="4753080"/>
          </a:xfrm>
          <a:prstGeom prst="rect">
            <a:avLst/>
          </a:prstGeom>
          <a:ln w="0">
            <a:noFill/>
          </a:ln>
        </p:spPr>
      </p:pic>
      <p:pic>
        <p:nvPicPr>
          <p:cNvPr id="166" name="5°RENCONTRES" descr=""/>
          <p:cNvPicPr/>
          <p:nvPr/>
        </p:nvPicPr>
        <p:blipFill>
          <a:blip r:embed="rId3"/>
          <a:stretch/>
        </p:blipFill>
        <p:spPr>
          <a:xfrm>
            <a:off x="1828800" y="1523880"/>
            <a:ext cx="2239920" cy="4757760"/>
          </a:xfrm>
          <a:prstGeom prst="rect">
            <a:avLst/>
          </a:prstGeom>
          <a:ln w="0">
            <a:noFill/>
          </a:ln>
        </p:spPr>
      </p:pic>
      <p:pic>
        <p:nvPicPr>
          <p:cNvPr id="167" name="7°RENC" descr=""/>
          <p:cNvPicPr/>
          <p:nvPr/>
        </p:nvPicPr>
        <p:blipFill>
          <a:blip r:embed="rId4"/>
          <a:stretch/>
        </p:blipFill>
        <p:spPr>
          <a:xfrm>
            <a:off x="3505320" y="1981080"/>
            <a:ext cx="2155680" cy="463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pic>
        <p:nvPicPr>
          <p:cNvPr id="170" name="4°RENCONTRES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2165400" cy="4753080"/>
          </a:xfrm>
          <a:prstGeom prst="rect">
            <a:avLst/>
          </a:prstGeom>
          <a:ln w="0">
            <a:noFill/>
          </a:ln>
        </p:spPr>
      </p:pic>
      <p:pic>
        <p:nvPicPr>
          <p:cNvPr id="171" name="5°RENCONTRES" descr=""/>
          <p:cNvPicPr/>
          <p:nvPr/>
        </p:nvPicPr>
        <p:blipFill>
          <a:blip r:embed="rId3"/>
          <a:stretch/>
        </p:blipFill>
        <p:spPr>
          <a:xfrm>
            <a:off x="1828800" y="1523880"/>
            <a:ext cx="2239920" cy="4757760"/>
          </a:xfrm>
          <a:prstGeom prst="rect">
            <a:avLst/>
          </a:prstGeom>
          <a:ln w="0">
            <a:noFill/>
          </a:ln>
        </p:spPr>
      </p:pic>
      <p:pic>
        <p:nvPicPr>
          <p:cNvPr id="172" name="7°RENC" descr=""/>
          <p:cNvPicPr/>
          <p:nvPr/>
        </p:nvPicPr>
        <p:blipFill>
          <a:blip r:embed="rId4"/>
          <a:stretch/>
        </p:blipFill>
        <p:spPr>
          <a:xfrm>
            <a:off x="3505320" y="1981080"/>
            <a:ext cx="2155680" cy="4638960"/>
          </a:xfrm>
          <a:prstGeom prst="rect">
            <a:avLst/>
          </a:prstGeom>
          <a:ln w="0">
            <a:noFill/>
          </a:ln>
        </p:spPr>
      </p:pic>
      <p:pic>
        <p:nvPicPr>
          <p:cNvPr id="173" name="LUTTES&amp;RESIS" descr=""/>
          <p:cNvPicPr/>
          <p:nvPr/>
        </p:nvPicPr>
        <p:blipFill>
          <a:blip r:embed="rId5"/>
          <a:stretch/>
        </p:blipFill>
        <p:spPr>
          <a:xfrm>
            <a:off x="5257800" y="1447920"/>
            <a:ext cx="2421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pic>
        <p:nvPicPr>
          <p:cNvPr id="176" name="4°RENCONTRES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2165400" cy="4753080"/>
          </a:xfrm>
          <a:prstGeom prst="rect">
            <a:avLst/>
          </a:prstGeom>
          <a:ln w="0">
            <a:noFill/>
          </a:ln>
        </p:spPr>
      </p:pic>
      <p:pic>
        <p:nvPicPr>
          <p:cNvPr id="177" name="5°RENCONTRES" descr=""/>
          <p:cNvPicPr/>
          <p:nvPr/>
        </p:nvPicPr>
        <p:blipFill>
          <a:blip r:embed="rId3"/>
          <a:stretch/>
        </p:blipFill>
        <p:spPr>
          <a:xfrm>
            <a:off x="1828800" y="1523880"/>
            <a:ext cx="2239920" cy="4757760"/>
          </a:xfrm>
          <a:prstGeom prst="rect">
            <a:avLst/>
          </a:prstGeom>
          <a:ln w="0">
            <a:noFill/>
          </a:ln>
        </p:spPr>
      </p:pic>
      <p:pic>
        <p:nvPicPr>
          <p:cNvPr id="178" name="7°RENC" descr=""/>
          <p:cNvPicPr/>
          <p:nvPr/>
        </p:nvPicPr>
        <p:blipFill>
          <a:blip r:embed="rId4"/>
          <a:stretch/>
        </p:blipFill>
        <p:spPr>
          <a:xfrm>
            <a:off x="3505320" y="1981080"/>
            <a:ext cx="2155680" cy="4638960"/>
          </a:xfrm>
          <a:prstGeom prst="rect">
            <a:avLst/>
          </a:prstGeom>
          <a:ln w="0">
            <a:noFill/>
          </a:ln>
        </p:spPr>
      </p:pic>
      <p:pic>
        <p:nvPicPr>
          <p:cNvPr id="179" name="LUTTES&amp;RESIS" descr=""/>
          <p:cNvPicPr/>
          <p:nvPr/>
        </p:nvPicPr>
        <p:blipFill>
          <a:blip r:embed="rId5"/>
          <a:stretch/>
        </p:blipFill>
        <p:spPr>
          <a:xfrm>
            <a:off x="5257800" y="1447920"/>
            <a:ext cx="2421000" cy="4800600"/>
          </a:xfrm>
          <a:prstGeom prst="rect">
            <a:avLst/>
          </a:prstGeom>
          <a:ln w="0">
            <a:noFill/>
          </a:ln>
        </p:spPr>
      </p:pic>
      <p:pic>
        <p:nvPicPr>
          <p:cNvPr id="180" name="dep%20enregistrements" descr=""/>
          <p:cNvPicPr/>
          <p:nvPr/>
        </p:nvPicPr>
        <p:blipFill>
          <a:blip r:embed="rId6"/>
          <a:stretch/>
        </p:blipFill>
        <p:spPr>
          <a:xfrm>
            <a:off x="6629400" y="1905120"/>
            <a:ext cx="2155680" cy="47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66680" y="2209680"/>
            <a:ext cx="73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Boulder"/>
              </a:rPr>
              <a:t>MAISON MAZEL MAISON VIVANT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maison%20vue%20générale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312444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914400" y="2125800"/>
            <a:ext cx="73915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Boulder"/>
              </a:rPr>
              <a:t>ASSOCIATION LAÏQUE DEDIEE AU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Boulder"/>
              </a:rPr>
              <a:t>RESISTANCES D’HIER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Boulder"/>
              </a:rPr>
              <a:t>D’AUJOURD’HU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Boulder"/>
              </a:rPr>
              <a:t>ET DE DE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65800" y="838080"/>
            <a:ext cx="63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914400" y="2125800"/>
            <a:ext cx="739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Boulder"/>
              </a:rPr>
              <a:t>SITUEE AU HAMEAU DE FALGUIERES SUR LA COMMUNE DE St JEAN DU GARD, DANS LA MAISON NATALE  D’ABRAHAM MAZEL, CHEF CAMISARD (1667-171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65800" y="838080"/>
            <a:ext cx="63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572000" y="2125800"/>
            <a:ext cx="3733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65800" y="838080"/>
            <a:ext cx="63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maison%20mazel" descr=""/>
          <p:cNvPicPr/>
          <p:nvPr/>
        </p:nvPicPr>
        <p:blipFill>
          <a:blip r:embed="rId2"/>
          <a:stretch/>
        </p:blipFill>
        <p:spPr>
          <a:xfrm>
            <a:off x="914400" y="2286000"/>
            <a:ext cx="2514600" cy="22176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809880" y="1752480"/>
            <a:ext cx="4496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RESTAUREE DEPUIS 1992, ELLE A VOCATION A DEVENIR UN CENTRE INTERNATIONAL POUR PROMOUVOIR LA LIBERTE DE CONSCIENCE ET LES ACTIVITES HUMAINES RESPECTUEUSES DE L’ENVIRONN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914400" y="2125800"/>
            <a:ext cx="73915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Boulder"/>
              </a:rPr>
              <a:t>FONDEE A LA SUITE DE LA LUTTE VICTORIEUSE CONTRE LE BARRAGE DE LA BORIE, L’ASSOCIATION PARTICIPE AUX LUTTES ET AUX RESISTANCES CULTURELLES, ECOLOGIQUES ET SOC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65800" y="838080"/>
            <a:ext cx="63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657600" y="2209680"/>
            <a:ext cx="510552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CHAQUE ANNEE LE PREMIER WEEK END D’AVRIL, A St JEAN DU GARD,  RENCONTRE DES FILMS DOCUMENTAIRES « » » » » » »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 </a:t>
            </a: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»</a:t>
            </a:r>
            <a:r>
              <a:rPr b="0" lang="en-US" sz="4800" spc="-1" strike="noStrike">
                <a:solidFill>
                  <a:srgbClr val="cc0000"/>
                </a:solidFill>
                <a:latin typeface="Mistral"/>
              </a:rPr>
              <a:t>LUTTES et RESISTANCES</a:t>
            </a:r>
            <a:r>
              <a:rPr b="0" lang="en-US" sz="3600" spc="-1" strike="noStrike">
                <a:solidFill>
                  <a:srgbClr val="cc0000"/>
                </a:solidFill>
                <a:latin typeface="Mistr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azooka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LUTTES&amp;RESIS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2224080" cy="4410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733920" y="5029200"/>
            <a:ext cx="495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ES RENCONTRES FONT PARTIE DU « PRINTEMPS DU DOCUMENTAIRE EN CEVENNES 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pic>
        <p:nvPicPr>
          <p:cNvPr id="210" name="assemblee" descr=""/>
          <p:cNvPicPr/>
          <p:nvPr/>
        </p:nvPicPr>
        <p:blipFill>
          <a:blip r:embed="rId2"/>
          <a:stretch/>
        </p:blipFill>
        <p:spPr>
          <a:xfrm>
            <a:off x="990720" y="259092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191120" y="1981080"/>
            <a:ext cx="4343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CHAQUE ANNEE LE PREMIER WEEK END DE JUILLET, DE NOMBREUX AMIS SE RASSEMBLENT POUR LES COLLOQUES ORGANISES PAR L’ASSOCIATION, VERITABLE UNIVERSITE D’ETE, ANIMEE PAR DES CHERCHEURS ET DES UNIVERSIT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azooka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54864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azooka"/>
              </a:rPr>
              <a:t>FALGUI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pic>
        <p:nvPicPr>
          <p:cNvPr id="216" name="4°RENCONTRES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21654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pic>
        <p:nvPicPr>
          <p:cNvPr id="219" name="4°RENCONTRES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2165400" cy="4753080"/>
          </a:xfrm>
          <a:prstGeom prst="rect">
            <a:avLst/>
          </a:prstGeom>
          <a:ln w="0">
            <a:noFill/>
          </a:ln>
        </p:spPr>
      </p:pic>
      <p:pic>
        <p:nvPicPr>
          <p:cNvPr id="220" name="5°RENCONTRES" descr=""/>
          <p:cNvPicPr/>
          <p:nvPr/>
        </p:nvPicPr>
        <p:blipFill>
          <a:blip r:embed="rId3"/>
          <a:stretch/>
        </p:blipFill>
        <p:spPr>
          <a:xfrm>
            <a:off x="1828800" y="1523880"/>
            <a:ext cx="2239920" cy="47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pic>
        <p:nvPicPr>
          <p:cNvPr id="223" name="4°RENCONTRES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2165400" cy="4753080"/>
          </a:xfrm>
          <a:prstGeom prst="rect">
            <a:avLst/>
          </a:prstGeom>
          <a:ln w="0">
            <a:noFill/>
          </a:ln>
        </p:spPr>
      </p:pic>
      <p:pic>
        <p:nvPicPr>
          <p:cNvPr id="224" name="5°RENCONTRES" descr=""/>
          <p:cNvPicPr/>
          <p:nvPr/>
        </p:nvPicPr>
        <p:blipFill>
          <a:blip r:embed="rId3"/>
          <a:stretch/>
        </p:blipFill>
        <p:spPr>
          <a:xfrm>
            <a:off x="1828800" y="1523880"/>
            <a:ext cx="2239920" cy="4757760"/>
          </a:xfrm>
          <a:prstGeom prst="rect">
            <a:avLst/>
          </a:prstGeom>
          <a:ln w="0">
            <a:noFill/>
          </a:ln>
        </p:spPr>
      </p:pic>
      <p:pic>
        <p:nvPicPr>
          <p:cNvPr id="225" name="7°RENC" descr=""/>
          <p:cNvPicPr/>
          <p:nvPr/>
        </p:nvPicPr>
        <p:blipFill>
          <a:blip r:embed="rId4"/>
          <a:stretch/>
        </p:blipFill>
        <p:spPr>
          <a:xfrm>
            <a:off x="3505320" y="1981080"/>
            <a:ext cx="2155680" cy="463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pic>
        <p:nvPicPr>
          <p:cNvPr id="228" name="4°RENCONTRES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2165400" cy="4753080"/>
          </a:xfrm>
          <a:prstGeom prst="rect">
            <a:avLst/>
          </a:prstGeom>
          <a:ln w="0">
            <a:noFill/>
          </a:ln>
        </p:spPr>
      </p:pic>
      <p:pic>
        <p:nvPicPr>
          <p:cNvPr id="229" name="5°RENCONTRES" descr=""/>
          <p:cNvPicPr/>
          <p:nvPr/>
        </p:nvPicPr>
        <p:blipFill>
          <a:blip r:embed="rId3"/>
          <a:stretch/>
        </p:blipFill>
        <p:spPr>
          <a:xfrm>
            <a:off x="1828800" y="1523880"/>
            <a:ext cx="2239920" cy="4757760"/>
          </a:xfrm>
          <a:prstGeom prst="rect">
            <a:avLst/>
          </a:prstGeom>
          <a:ln w="0">
            <a:noFill/>
          </a:ln>
        </p:spPr>
      </p:pic>
      <p:pic>
        <p:nvPicPr>
          <p:cNvPr id="230" name="7°RENC" descr=""/>
          <p:cNvPicPr/>
          <p:nvPr/>
        </p:nvPicPr>
        <p:blipFill>
          <a:blip r:embed="rId4"/>
          <a:stretch/>
        </p:blipFill>
        <p:spPr>
          <a:xfrm>
            <a:off x="3505320" y="1981080"/>
            <a:ext cx="2155680" cy="4638960"/>
          </a:xfrm>
          <a:prstGeom prst="rect">
            <a:avLst/>
          </a:prstGeom>
          <a:ln w="0">
            <a:noFill/>
          </a:ln>
        </p:spPr>
      </p:pic>
      <p:pic>
        <p:nvPicPr>
          <p:cNvPr id="231" name="LUTTES&amp;RESIS" descr=""/>
          <p:cNvPicPr/>
          <p:nvPr/>
        </p:nvPicPr>
        <p:blipFill>
          <a:blip r:embed="rId5"/>
          <a:stretch/>
        </p:blipFill>
        <p:spPr>
          <a:xfrm>
            <a:off x="5257800" y="1447920"/>
            <a:ext cx="2421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assemblee%202" descr=""/>
          <p:cNvPicPr/>
          <p:nvPr/>
        </p:nvPicPr>
        <p:blipFill>
          <a:blip r:embed="rId2"/>
          <a:stretch/>
        </p:blipFill>
        <p:spPr>
          <a:xfrm>
            <a:off x="1295280" y="6094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71" name="assemblee" descr=""/>
          <p:cNvPicPr/>
          <p:nvPr/>
        </p:nvPicPr>
        <p:blipFill>
          <a:blip r:embed="rId3"/>
          <a:stretch/>
        </p:blipFill>
        <p:spPr>
          <a:xfrm>
            <a:off x="1371600" y="3733920"/>
            <a:ext cx="2590920" cy="1942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91120" y="685800"/>
            <a:ext cx="419076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PROGRAMME PROVISOIRE RUPTURES/ENGAGEMENTS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IXèmes Rencontres Mazel – Eté -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pic>
        <p:nvPicPr>
          <p:cNvPr id="234" name="4°RENCONTRES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2165400" cy="4753080"/>
          </a:xfrm>
          <a:prstGeom prst="rect">
            <a:avLst/>
          </a:prstGeom>
          <a:ln w="0">
            <a:noFill/>
          </a:ln>
        </p:spPr>
      </p:pic>
      <p:pic>
        <p:nvPicPr>
          <p:cNvPr id="235" name="5°RENCONTRES" descr=""/>
          <p:cNvPicPr/>
          <p:nvPr/>
        </p:nvPicPr>
        <p:blipFill>
          <a:blip r:embed="rId3"/>
          <a:stretch/>
        </p:blipFill>
        <p:spPr>
          <a:xfrm>
            <a:off x="1828800" y="1523880"/>
            <a:ext cx="2239920" cy="4757760"/>
          </a:xfrm>
          <a:prstGeom prst="rect">
            <a:avLst/>
          </a:prstGeom>
          <a:ln w="0">
            <a:noFill/>
          </a:ln>
        </p:spPr>
      </p:pic>
      <p:pic>
        <p:nvPicPr>
          <p:cNvPr id="236" name="7°RENC" descr=""/>
          <p:cNvPicPr/>
          <p:nvPr/>
        </p:nvPicPr>
        <p:blipFill>
          <a:blip r:embed="rId4"/>
          <a:stretch/>
        </p:blipFill>
        <p:spPr>
          <a:xfrm>
            <a:off x="3505320" y="1981080"/>
            <a:ext cx="2155680" cy="4638960"/>
          </a:xfrm>
          <a:prstGeom prst="rect">
            <a:avLst/>
          </a:prstGeom>
          <a:ln w="0">
            <a:noFill/>
          </a:ln>
        </p:spPr>
      </p:pic>
      <p:pic>
        <p:nvPicPr>
          <p:cNvPr id="237" name="LUTTES&amp;RESIS" descr=""/>
          <p:cNvPicPr/>
          <p:nvPr/>
        </p:nvPicPr>
        <p:blipFill>
          <a:blip r:embed="rId5"/>
          <a:stretch/>
        </p:blipFill>
        <p:spPr>
          <a:xfrm>
            <a:off x="5257800" y="1447920"/>
            <a:ext cx="2421000" cy="4800600"/>
          </a:xfrm>
          <a:prstGeom prst="rect">
            <a:avLst/>
          </a:prstGeom>
          <a:ln w="0">
            <a:noFill/>
          </a:ln>
        </p:spPr>
      </p:pic>
      <p:pic>
        <p:nvPicPr>
          <p:cNvPr id="238" name="dep%20enregistrements" descr=""/>
          <p:cNvPicPr/>
          <p:nvPr/>
        </p:nvPicPr>
        <p:blipFill>
          <a:blip r:embed="rId6"/>
          <a:stretch/>
        </p:blipFill>
        <p:spPr>
          <a:xfrm>
            <a:off x="6629400" y="1905120"/>
            <a:ext cx="2155680" cy="47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pic>
        <p:nvPicPr>
          <p:cNvPr id="241" name="casse%20croute%20philo" descr=""/>
          <p:cNvPicPr/>
          <p:nvPr/>
        </p:nvPicPr>
        <p:blipFill>
          <a:blip r:embed="rId2"/>
          <a:stretch/>
        </p:blipFill>
        <p:spPr>
          <a:xfrm>
            <a:off x="5181480" y="2219400"/>
            <a:ext cx="3505320" cy="29955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533520" y="2133720"/>
            <a:ext cx="4495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ulder"/>
              </a:rPr>
              <a:t>LE DERNIER VENDREDI DES MOIS IMPAIRS, UN CASSE-CROUTE PHILO REUNIT TOUS LES AMIS QUI  VEULENT ECHANGER DES IDEES, DES CONCEPTS… </a:t>
            </a:r>
            <a:r>
              <a:rPr b="0" lang="en-US" sz="2400" spc="-1" strike="noStrike">
                <a:solidFill>
                  <a:srgbClr val="ffff66"/>
                </a:solidFill>
                <a:latin typeface="Boulder"/>
              </a:rPr>
              <a:t>DES RÊVES ?</a:t>
            </a:r>
            <a:r>
              <a:rPr b="0" lang="en-US" sz="2400" spc="-1" strike="noStrike">
                <a:solidFill>
                  <a:srgbClr val="ffffff"/>
                </a:solidFill>
                <a:latin typeface="Boulder"/>
              </a:rPr>
              <a:t> DANS LA CONVIVIALITE ET LA CHALEUR DU COIN DE LA CHEMINE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4040" y="167652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azooka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61240" y="533412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zooka"/>
              </a:rPr>
              <a:t>FALGUI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2209680"/>
            <a:ext cx="7696080" cy="33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ET ENCOR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Boulder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Boulder"/>
              </a:rPr>
              <a:t>CREATION D’UNE BORNE INFORMATIQUE INTER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Boulder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Boulder"/>
              </a:rPr>
              <a:t>REALISATION D’UN CD INTERACTIF « </a:t>
            </a:r>
            <a:r>
              <a:rPr b="0" lang="en-US" sz="2000" spc="-1" strike="noStrike">
                <a:solidFill>
                  <a:srgbClr val="cc0000"/>
                </a:solidFill>
                <a:latin typeface="Mistral"/>
              </a:rPr>
              <a:t>FONTAINES et BE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Boulder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Boulder"/>
              </a:rPr>
              <a:t>EXPOSITIONS DE PEINTURE : LINDEGAARD, ESPOSITO-FARESE, LACOMBE, GRIMAL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Boulder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Boulder"/>
              </a:rPr>
              <a:t>CONCERTS : ORCHESTRE DE MINNEAPOLIS, CROCOCELLI, QUATUOR PSALMU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azooka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762120" y="2209680"/>
            <a:ext cx="769608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ET AU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THEATR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CREATION AVEC LE </a:t>
            </a:r>
            <a:r>
              <a:rPr b="0" lang="en-US" sz="2400" spc="-1" strike="noStrike">
                <a:solidFill>
                  <a:srgbClr val="cc0000"/>
                </a:solidFill>
                <a:latin typeface="Mistral"/>
              </a:rPr>
              <a:t>GARGAMELA THEATRE</a:t>
            </a: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 DE LA PIECE «  » </a:t>
            </a:r>
            <a:r>
              <a:rPr b="0" lang="en-US" sz="2400" spc="-1" strike="noStrike">
                <a:solidFill>
                  <a:srgbClr val="cc0000"/>
                </a:solidFill>
                <a:latin typeface="Mistral"/>
              </a:rPr>
              <a:t>ABRAHAM MAZEL, PROPHETE/CAMIS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LECTURES THEATRALES, POE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COORDINATION DE L’OUVRAGE </a:t>
            </a:r>
            <a:r>
              <a:rPr b="0" lang="en-US" sz="2400" spc="-1" strike="noStrike">
                <a:solidFill>
                  <a:srgbClr val="cc0000"/>
                </a:solidFill>
                <a:latin typeface="Mistral"/>
              </a:rPr>
              <a:t>ITINERAIRES HUGUEN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Mistr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azooka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762120" y="2209680"/>
            <a:ext cx="7696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Mistr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16765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azooka"/>
              </a:rPr>
              <a:t>EC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2209680"/>
            <a:ext cx="731520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REHABILITATION DE LA PROPRIETE MAZEL (7 hecta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CREATION SUR LA PROPRIETE D’UNE </a:t>
            </a:r>
            <a:r>
              <a:rPr b="0" lang="en-US" sz="3200" spc="-1" strike="noStrike">
                <a:solidFill>
                  <a:srgbClr val="cc0000"/>
                </a:solidFill>
                <a:latin typeface="Mistral"/>
              </a:rPr>
              <a:t>CHATAIGNERAIE MEMO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PLANTATION D’UNE « </a:t>
            </a:r>
            <a:r>
              <a:rPr b="0" lang="en-US" sz="3200" spc="-1" strike="noStrike">
                <a:solidFill>
                  <a:srgbClr val="cc0000"/>
                </a:solidFill>
                <a:latin typeface="Mistral"/>
              </a:rPr>
              <a:t>FORET DU REF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PARTICIPATION AU FESTIVAL DE LA RANDONN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SOUTIEN A LA CONFEDERATION PAY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62120" y="2209680"/>
            <a:ext cx="7696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Mistr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16765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azooka"/>
              </a:rPr>
              <a:t>EC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762120" y="1600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azook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22780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1905120"/>
            <a:ext cx="80773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INITIATION DE  LA CONCERTATION SUR LE FONCIER EN CEVENNES ET L’INSTALLATION DES JEUNES AGRICUL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ANIMATION DE STAGES DE JEUNES CHOM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FORMATIONS A L’IMAGE EN MILIEU SCO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INFORMATIONS SUR DES SUJETS D’ACTUALITE : DROIT AU LOGEMENT, DROITS DES ETRANGERS, L’INTERCOMMUNALIT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INTERVENTIONS DANS DES LYCEES SUR LES DROITS DE L’HO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914400" y="2125800"/>
            <a:ext cx="7391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765800" y="838080"/>
            <a:ext cx="63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1828800"/>
            <a:ext cx="8763120" cy="4740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Boulder"/>
              </a:rPr>
              <a:t>POUR PERMETTRE AUX ACTIVITES DE LA</a:t>
            </a:r>
            <a:r>
              <a:rPr b="0" lang="fr-FR" sz="3200" spc="-1" strike="noStrike">
                <a:solidFill>
                  <a:srgbClr val="ffffff"/>
                </a:solidFill>
                <a:latin typeface="Boulde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8000"/>
                </a:solidFill>
                <a:latin typeface="Boulder"/>
              </a:rPr>
              <a:t>MAISON MAZEL  MAISON VIVANTE</a:t>
            </a:r>
            <a:r>
              <a:rPr b="0" lang="fr-FR" sz="3200" spc="-1" strike="noStrike">
                <a:solidFill>
                  <a:srgbClr val="ffffff"/>
                </a:solidFill>
                <a:latin typeface="Boulde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Boulder"/>
              </a:rPr>
              <a:t>DE SE DEVELOPPER, CONTACTEZ NOUS 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Boulder"/>
              </a:rPr>
              <a:t>04 66 85 33 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ccccff"/>
                </a:solidFill>
                <a:uFillTx/>
                <a:latin typeface="Boulder"/>
                <a:hlinkClick r:id="rId2"/>
              </a:rPr>
              <a:t>http://site.voila.fr/abrahammaz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Boulder"/>
              </a:rPr>
              <a:t>1, rue du Maréchal de Thoi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Boulder"/>
              </a:rPr>
              <a:t>30270 St JEAN DU G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62120" y="2209680"/>
            <a:ext cx="7696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Mistr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8080" y="16765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azooka"/>
              </a:rPr>
              <a:t>EC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62120" y="2209680"/>
            <a:ext cx="7696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Mistr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16765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azooka"/>
              </a:rPr>
              <a:t>EC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ssemblee%202" descr=""/>
          <p:cNvPicPr/>
          <p:nvPr/>
        </p:nvPicPr>
        <p:blipFill>
          <a:blip r:embed="rId2"/>
          <a:stretch/>
        </p:blipFill>
        <p:spPr>
          <a:xfrm>
            <a:off x="1295280" y="6094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74" name="assemblee" descr=""/>
          <p:cNvPicPr/>
          <p:nvPr/>
        </p:nvPicPr>
        <p:blipFill>
          <a:blip r:embed="rId3"/>
          <a:stretch/>
        </p:blipFill>
        <p:spPr>
          <a:xfrm>
            <a:off x="1371600" y="3733920"/>
            <a:ext cx="2590920" cy="1942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191120" y="685800"/>
            <a:ext cx="4190760" cy="23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PROGRAMME PROVISOIRE RUPTURES/ENGAGEMENTS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IXèmes Rencontres Mazel – Eté -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Vendredi 30 juin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Robert WEEDA – Stage de chant choral Maison Mazel: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"Les psaumes : musiques de rupture/engagement"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pic>
        <p:nvPicPr>
          <p:cNvPr id="281" name="assemblee" descr=""/>
          <p:cNvPicPr/>
          <p:nvPr/>
        </p:nvPicPr>
        <p:blipFill>
          <a:blip r:embed="rId2"/>
          <a:stretch/>
        </p:blipFill>
        <p:spPr>
          <a:xfrm>
            <a:off x="990720" y="259092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419720" y="2209680"/>
            <a:ext cx="4038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CHAQUE ANNEE LE PREMIER WEEK END DE JUILLET, DE NOMBREUX AMIS SE RASSEMBLENT POUR LES COLLOQUES ORGANISES PAR L’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08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azooka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pic>
        <p:nvPicPr>
          <p:cNvPr id="286" name="assemblee" descr=""/>
          <p:cNvPicPr/>
          <p:nvPr/>
        </p:nvPicPr>
        <p:blipFill>
          <a:blip r:embed="rId2"/>
          <a:stretch/>
        </p:blipFill>
        <p:spPr>
          <a:xfrm>
            <a:off x="990720" y="259092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4419720" y="2209680"/>
            <a:ext cx="4038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Boulder"/>
              </a:rPr>
              <a:t>CHAQUE ANNEE LE PREMIER WEEK END DE JUILLET, DE NOMBREUX AMIS SE RASSEMBLENT POUR LES COLLOQUES ORGANISES PAR L’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Bazooka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914400" y="2125800"/>
            <a:ext cx="7391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65800" y="838080"/>
            <a:ext cx="63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fade thruBlk="true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914400" y="2125800"/>
            <a:ext cx="7391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65800" y="838080"/>
            <a:ext cx="63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fade thruBlk="true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914400" y="2125800"/>
            <a:ext cx="7391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65800" y="838080"/>
            <a:ext cx="63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fade thruBlk="true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914400" y="2125800"/>
            <a:ext cx="7391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65800" y="838080"/>
            <a:ext cx="63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914400" y="2125800"/>
            <a:ext cx="73915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Boulder"/>
              </a:rPr>
              <a:t>FONDEE A LA SUITE DE LA LUTTE VICTORIEUSE CONTRE LE BARRAGE DE LA BORIE, L’ASSOCIATION PARTICIPE AUX LUTTES ET AUX RESISTANCES CULTURELLES, ECOLOGIQUES ET SOC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65800" y="838080"/>
            <a:ext cx="63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fade thruBlk="true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914400" y="2125800"/>
            <a:ext cx="73915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Boulder"/>
              </a:rPr>
              <a:t>FONDEE A LA SUITE DE LA LUTTE VICTORIEUSE CONTRE LE BARRAGE DE LA BORIE, L’ASSOCIATION PARTICIPE AUX LUTTES ET AUX RESISTANCES CULTURELLES, ECOLOGIQUES ET SOC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65800" y="838080"/>
            <a:ext cx="63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914400" y="2125800"/>
            <a:ext cx="73915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Boulder"/>
              </a:rPr>
              <a:t>FONDEE A LA SUITE DE LA LUTTE VICTORIEUSE CONTRE LE BARRAGE DE LA BORIE, L’ASSOCIATION PARTICIPE AUX LUTTES ET AUX RESISTANCES CULTURELLES, ECOLOGIQUES ET SOC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65800" y="838080"/>
            <a:ext cx="63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fade thruBlk="true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914400" y="2125800"/>
            <a:ext cx="73915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Boulder"/>
              </a:rPr>
              <a:t>FONDEE A LA SUITE DE LA LUTTE VICTORIEUSE CONTRE LE BARRAGE DE LA BORIE, L’ASSOCIATION PARTICIPE AUX LUTTES ET AUX RESISTANCES CULTURELLES, ECOLOGIQUES ET SOC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65800" y="838080"/>
            <a:ext cx="63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ulder"/>
              </a:rPr>
              <a:t>ASSOCIATION ABRAHAM MAZ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ssemblee%202" descr=""/>
          <p:cNvPicPr/>
          <p:nvPr/>
        </p:nvPicPr>
        <p:blipFill>
          <a:blip r:embed="rId2"/>
          <a:stretch/>
        </p:blipFill>
        <p:spPr>
          <a:xfrm>
            <a:off x="1295280" y="6094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77" name="assemblee" descr=""/>
          <p:cNvPicPr/>
          <p:nvPr/>
        </p:nvPicPr>
        <p:blipFill>
          <a:blip r:embed="rId3"/>
          <a:stretch/>
        </p:blipFill>
        <p:spPr>
          <a:xfrm>
            <a:off x="1371600" y="3733920"/>
            <a:ext cx="2590920" cy="1942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191120" y="685800"/>
            <a:ext cx="4190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PROGRAMME PROVISOIRE RUPTURES/ENGAGEMENTS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IXèmes Rencontres Mazel – Eté -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1447920"/>
            <a:ext cx="4343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Vendredi 30 juin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Robert WEEDA – Stage de chant choral Maison Mazel: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"Les psaumes : musiques de rupture/engagement"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228600" y="297000"/>
            <a:ext cx="8534520" cy="70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SSOC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BRAH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MAZ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  <a:ea typeface="Arial"/>
              </a:rPr>
              <a:t>Un</a:t>
            </a:r>
            <a:r>
              <a:rPr b="0" lang="fr-FR" sz="2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 Black"/>
                <a:ea typeface="Arial"/>
              </a:rPr>
              <a:t>projet</a:t>
            </a:r>
            <a:r>
              <a:rPr b="0" lang="fr-FR" sz="2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 Black"/>
                <a:ea typeface="Arial"/>
              </a:rPr>
              <a:t>environnemental</a:t>
            </a: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Sauvegarder</a:t>
            </a:r>
            <a:r>
              <a:rPr b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i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un</a:t>
            </a:r>
            <a:r>
              <a:rPr b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i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lieu</a:t>
            </a:r>
            <a:r>
              <a:rPr b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i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de</a:t>
            </a:r>
            <a:r>
              <a:rPr b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i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mémoi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  <a:ea typeface="Arial"/>
              </a:rPr>
              <a:t>Un travail sur l'histoire</a:t>
            </a:r>
            <a:r>
              <a:rPr b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Valoriser</a:t>
            </a:r>
            <a:r>
              <a:rPr b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i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et</a:t>
            </a:r>
            <a:r>
              <a:rPr b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i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communiquer</a:t>
            </a:r>
            <a:r>
              <a:rPr b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i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l'identité</a:t>
            </a:r>
            <a:r>
              <a:rPr b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i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céven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  <a:ea typeface="Arial"/>
              </a:rPr>
              <a:t>Une éthique pour aujourd'hui</a:t>
            </a:r>
            <a:r>
              <a:rPr b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Témoigner</a:t>
            </a:r>
            <a:r>
              <a:rPr b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i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de</a:t>
            </a:r>
            <a:r>
              <a:rPr b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i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l'actualité</a:t>
            </a:r>
            <a:r>
              <a:rPr b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i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des</a:t>
            </a:r>
            <a:r>
              <a:rPr b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i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valeurs</a:t>
            </a:r>
            <a:r>
              <a:rPr b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i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issues</a:t>
            </a:r>
            <a:r>
              <a:rPr b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i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la</a:t>
            </a:r>
            <a:r>
              <a:rPr b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i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réforme</a:t>
            </a:r>
            <a:r>
              <a:rPr b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i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protestante.</a:t>
            </a: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Black"/>
                <a:ea typeface="Arial"/>
              </a:rPr>
              <a:t>Association Abraham MAZEL, l, Rue du Maréchal de Thoi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Black"/>
                <a:ea typeface="Arial"/>
              </a:rPr>
              <a:t>30270 Saint-Jean-du-G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fade thruBlk="true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28600" y="297000"/>
            <a:ext cx="8534520" cy="79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Un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projet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environn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Pour toutes les réalisations concernant ce projet, la Communau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de Communes «Pays Cévenol» s'est portée «maître d'ouvrage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l'association en assume la «maîtrise d’œuvre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66"/>
                </a:solidFill>
                <a:uFillTx/>
                <a:latin typeface="Arial Black"/>
                <a:ea typeface="Arial"/>
              </a:rPr>
              <a:t>Pour </a:t>
            </a:r>
            <a:r>
              <a:rPr b="0" lang="en-US" sz="1600" spc="-1" strike="noStrike">
                <a:solidFill>
                  <a:srgbClr val="ffff66"/>
                </a:solidFill>
                <a:latin typeface="Arial Black"/>
                <a:ea typeface="Arial"/>
              </a:rPr>
              <a:t> </a:t>
            </a:r>
            <a:r>
              <a:rPr b="1" lang="en-US" sz="1600" spc="-1" strike="noStrike" u="sng">
                <a:solidFill>
                  <a:srgbClr val="ffff66"/>
                </a:solidFill>
                <a:uFillTx/>
                <a:latin typeface="Arial Black"/>
                <a:ea typeface="Arial"/>
              </a:rPr>
              <a:t>la</a:t>
            </a:r>
            <a:r>
              <a:rPr b="0" lang="en-US" sz="1600" spc="-1" strike="noStrike">
                <a:solidFill>
                  <a:srgbClr val="ffff66"/>
                </a:solidFill>
                <a:latin typeface="Arial Black"/>
                <a:ea typeface="Arial"/>
              </a:rPr>
              <a:t> </a:t>
            </a:r>
            <a:r>
              <a:rPr b="1" lang="en-US" sz="1600" spc="-1" strike="noStrike" u="sng">
                <a:solidFill>
                  <a:srgbClr val="ffff66"/>
                </a:solidFill>
                <a:uFillTx/>
                <a:latin typeface="Arial Black"/>
                <a:ea typeface="Arial"/>
              </a:rPr>
              <a:t>mai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Acquise en très mauvais état, trois tranches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avaient été programmé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l/ Remise en état de la partie la moins dégrad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2/ Reconstruction de la partie ruin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3/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 Construction de nouveaux locaux attena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66"/>
                </a:solidFill>
                <a:uFillTx/>
                <a:latin typeface="Arial Black"/>
                <a:ea typeface="Arial"/>
              </a:rPr>
              <a:t>Pour</a:t>
            </a:r>
            <a:r>
              <a:rPr b="0" lang="en-US" sz="1600" spc="-1" strike="noStrike">
                <a:solidFill>
                  <a:srgbClr val="ffff66"/>
                </a:solidFill>
                <a:latin typeface="Arial Black"/>
                <a:ea typeface="Arial"/>
              </a:rPr>
              <a:t> </a:t>
            </a:r>
            <a:r>
              <a:rPr b="0" lang="en-US" sz="1600" spc="-1" strike="noStrike" u="sng">
                <a:solidFill>
                  <a:srgbClr val="ffff66"/>
                </a:solidFill>
                <a:uFillTx/>
                <a:latin typeface="Arial Black"/>
                <a:ea typeface="Arial"/>
              </a:rPr>
              <a:t>les</a:t>
            </a:r>
            <a:r>
              <a:rPr b="0" lang="en-US" sz="1600" spc="-1" strike="noStrike">
                <a:solidFill>
                  <a:srgbClr val="ffff66"/>
                </a:solidFill>
                <a:latin typeface="Arial Black"/>
                <a:ea typeface="Arial"/>
              </a:rPr>
              <a:t> </a:t>
            </a:r>
            <a:r>
              <a:rPr b="0" lang="en-US" sz="1600" spc="-1" strike="noStrike" u="sng">
                <a:solidFill>
                  <a:srgbClr val="ffff66"/>
                </a:solidFill>
                <a:uFillTx/>
                <a:latin typeface="Arial Black"/>
                <a:ea typeface="Arial"/>
              </a:rPr>
              <a:t>terrains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 Black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Nous avons souhaité réhabiliter la châtaignerai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Il s'agit de créer une"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châtaigneraie conservatoire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 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avec le concours de l'association " Fruits oubliés "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fade thruBlk="true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28600" y="297000"/>
            <a:ext cx="8534520" cy="51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Un travail sur l'his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ffffff"/>
                </a:solidFill>
                <a:uFillTx/>
                <a:latin typeface="Arial Black"/>
                <a:ea typeface="Arial"/>
              </a:rPr>
              <a:t>Par</a:t>
            </a: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fr-FR" sz="1600" spc="-1" strike="noStrike" u="sng">
                <a:solidFill>
                  <a:srgbClr val="ffffff"/>
                </a:solidFill>
                <a:uFillTx/>
                <a:latin typeface="Arial Black"/>
                <a:ea typeface="Arial"/>
              </a:rPr>
              <a:t>le</a:t>
            </a: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fr-FR" sz="1600" spc="-1" strike="noStrike" u="sng">
                <a:solidFill>
                  <a:srgbClr val="ffffff"/>
                </a:solidFill>
                <a:uFillTx/>
                <a:latin typeface="Arial Black"/>
                <a:ea typeface="Arial"/>
              </a:rPr>
              <a:t>moyen</a:t>
            </a: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fr-FR" sz="1600" spc="-1" strike="noStrike" u="sng">
                <a:solidFill>
                  <a:srgbClr val="ffffff"/>
                </a:solidFill>
                <a:uFillTx/>
                <a:latin typeface="Arial Black"/>
                <a:ea typeface="Arial"/>
              </a:rPr>
              <a:t>du</a:t>
            </a: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fr-FR" sz="1600" spc="-1" strike="noStrike" u="sng">
                <a:solidFill>
                  <a:srgbClr val="ffffff"/>
                </a:solidFill>
                <a:uFillTx/>
                <a:latin typeface="Arial Black"/>
                <a:ea typeface="Arial"/>
              </a:rPr>
              <a:t>Multimé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— </a:t>
            </a: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Création d'une </a:t>
            </a:r>
            <a:r>
              <a:rPr b="1" lang="fr-FR" sz="2400" spc="-1" strike="noStrike">
                <a:solidFill>
                  <a:srgbClr val="ffffff"/>
                </a:solidFill>
                <a:latin typeface="Arial Black"/>
                <a:ea typeface="Arial"/>
              </a:rPr>
              <a:t>borne</a:t>
            </a:r>
            <a:r>
              <a:rPr b="0" lang="fr-FR" sz="2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 Black"/>
                <a:ea typeface="Arial"/>
              </a:rPr>
              <a:t>multimédia</a:t>
            </a:r>
            <a:r>
              <a:rPr b="0" lang="fr-FR" sz="2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 Black"/>
                <a:ea typeface="Arial"/>
              </a:rPr>
              <a:t>interactive</a:t>
            </a: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 sur le personnage</a:t>
            </a: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Abraham Mazel dans le contexte historique cévenol de son temps et</a:t>
            </a: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une rétrospective sur les Cévennes, terre de résistance et d'accueil. A</a:t>
            </a: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ce jour, une séquence sur A. Mazel est consul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— </a:t>
            </a: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Constitution d'une équipe multimédia pour la </a:t>
            </a:r>
            <a:r>
              <a:rPr b="0" lang="fr-FR" sz="2400" spc="-1" strike="noStrike">
                <a:solidFill>
                  <a:srgbClr val="ffffff"/>
                </a:solidFill>
                <a:latin typeface="Arial Black"/>
                <a:ea typeface="Arial"/>
              </a:rPr>
              <a:t>création de C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sur les</a:t>
            </a: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systèmes hydrauliques anciens, " Fontaines et béals «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— </a:t>
            </a: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Maîtrise d'œuvre pour la création du </a:t>
            </a:r>
            <a:r>
              <a:rPr b="0" lang="fr-FR" sz="2400" spc="-1" strike="noStrike">
                <a:solidFill>
                  <a:srgbClr val="ffffff"/>
                </a:solidFill>
                <a:latin typeface="Arial Black"/>
                <a:ea typeface="Arial"/>
              </a:rPr>
              <a:t>site Internet</a:t>
            </a:r>
            <a:r>
              <a:rPr b="0" lang="fr-FR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 Black"/>
                <a:ea typeface="Arial"/>
              </a:rPr>
              <a:t>" camisard.net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—</a:t>
            </a: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Formation au </a:t>
            </a:r>
            <a:r>
              <a:rPr b="0" lang="fr-FR" sz="2400" spc="-1" strike="noStrike">
                <a:solidFill>
                  <a:srgbClr val="ffffff"/>
                </a:solidFill>
                <a:latin typeface="Arial Black"/>
                <a:ea typeface="Arial"/>
              </a:rPr>
              <a:t>multimédia en milieu scolaire</a:t>
            </a: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Nous avons également obtenu une « autorisation à l'apprenti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de la langue occitane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fade thruBlk="true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228600" y="297000"/>
            <a:ext cx="8534520" cy="60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Black"/>
                <a:ea typeface="Arial"/>
              </a:rPr>
              <a:t>Une éthique pour aujourd'h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Cet objectif connaît un temps fort avec les " Rencontres Mazel 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qui se tiennent régulièrement à la maison Maz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Thèmes proposé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Black"/>
                <a:ea typeface="Arial"/>
              </a:rPr>
              <a:t>Laïcité, tolérance, résistance et refuge, pai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Black"/>
                <a:ea typeface="Arial"/>
              </a:rPr>
              <a:t>liberté de conscience, respect des minorit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1998, le thème de la </a:t>
            </a:r>
            <a:r>
              <a:rPr b="1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Pai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Les deux années suivantes su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" Les montagnes méditerranéennes, terres de résistance,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refuge et d'échange. 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2001  deux thème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" Le prophétisme'' et " Majorités/minorités"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Ces rencontres proposent, conférences, tables rond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spectacles et exposi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fade thruBlk="true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logo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11280" cy="9144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28600" y="297000"/>
            <a:ext cx="8534520" cy="69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 Black"/>
                <a:ea typeface="Arial"/>
              </a:rPr>
              <a:t>Partenari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Tout au long de l'anné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Black"/>
                <a:ea typeface="Arial"/>
              </a:rPr>
              <a:t>l'association propose des sujet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Black"/>
                <a:ea typeface="Arial"/>
              </a:rPr>
              <a:t>réflexion sur l'actualité, parfois en partenariat avec d'autres associations</a:t>
            </a: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«</a:t>
            </a:r>
            <a:r>
              <a:rPr b="0" lang="fr-FR" sz="2400" spc="-1" strike="noStrike">
                <a:solidFill>
                  <a:srgbClr val="ffffff"/>
                </a:solidFill>
                <a:latin typeface="Arial Black"/>
                <a:ea typeface="Arial"/>
              </a:rPr>
              <a:t>Étranger, étrangers</a:t>
            </a: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»</a:t>
            </a: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« </a:t>
            </a:r>
            <a:r>
              <a:rPr b="0" lang="fr-FR" sz="2400" spc="-1" strike="noStrike">
                <a:solidFill>
                  <a:srgbClr val="ffffff"/>
                </a:solidFill>
                <a:latin typeface="Arial Black"/>
                <a:ea typeface="Arial"/>
              </a:rPr>
              <a:t>2000 Débats, débats 2000</a:t>
            </a: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avec 1'E.R.F St-Jean-du-Ga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« </a:t>
            </a:r>
            <a:r>
              <a:rPr b="0" lang="fr-FR" sz="2400" spc="-1" strike="noStrike">
                <a:solidFill>
                  <a:srgbClr val="ffffff"/>
                </a:solidFill>
                <a:latin typeface="Arial Black"/>
                <a:ea typeface="Arial"/>
              </a:rPr>
              <a:t>Les Sans-Papiers</a:t>
            </a: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» avec la Cim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— </a:t>
            </a: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L'Association a organisé diverses expositions, notamment à P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(Espace-Gard) et à Montpellier en 199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— </a:t>
            </a: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Nous participons au « Forum des Solidarités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Arial"/>
              </a:rPr>
              <a:t>organisé par le Lycée Jean-Baptiste Dumas à 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ssemblee%202" descr=""/>
          <p:cNvPicPr/>
          <p:nvPr/>
        </p:nvPicPr>
        <p:blipFill>
          <a:blip r:embed="rId2"/>
          <a:stretch/>
        </p:blipFill>
        <p:spPr>
          <a:xfrm>
            <a:off x="1295280" y="6094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81" name="assemblee" descr=""/>
          <p:cNvPicPr/>
          <p:nvPr/>
        </p:nvPicPr>
        <p:blipFill>
          <a:blip r:embed="rId3"/>
          <a:stretch/>
        </p:blipFill>
        <p:spPr>
          <a:xfrm>
            <a:off x="1371600" y="3733920"/>
            <a:ext cx="2590920" cy="1942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191120" y="685800"/>
            <a:ext cx="419076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PROGRAMME PROVISOIRE RUPTURES/ENGAGEMENTS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IXèmes Rencontres Mazel – Eté -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Vendredi 30 juin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Robert WEEDA – Stage de chant choral Maison Mazel: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"Les psaumes : musiques de rupture/engagement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2971800"/>
            <a:ext cx="472428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 u="sng">
                <a:solidFill>
                  <a:srgbClr val="000099"/>
                </a:solidFill>
                <a:uFillTx/>
                <a:latin typeface="Arial Black"/>
              </a:rPr>
              <a:t>Participation à la soirée</a:t>
            </a: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   </a:t>
            </a: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Soirée : 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Présentation des Rencontres Mazel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Conférence Chrystel BERNAT et Pauline DULEY-HAOUR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«Du Désert de sang au Désert de non-viol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Antoine Court à rebours de l’Insurrection des Enfants de Dieu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Présenté par Chrystel BERN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Participation de la chorale (dir.Robert Weeda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99"/>
                </a:solidFill>
                <a:uFillTx/>
                <a:latin typeface="Arial Black"/>
              </a:rPr>
              <a:t>Co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ssemblee%202" descr=""/>
          <p:cNvPicPr/>
          <p:nvPr/>
        </p:nvPicPr>
        <p:blipFill>
          <a:blip r:embed="rId2"/>
          <a:stretch/>
        </p:blipFill>
        <p:spPr>
          <a:xfrm>
            <a:off x="1295280" y="6094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85" name="assemblee" descr=""/>
          <p:cNvPicPr/>
          <p:nvPr/>
        </p:nvPicPr>
        <p:blipFill>
          <a:blip r:embed="rId3"/>
          <a:stretch/>
        </p:blipFill>
        <p:spPr>
          <a:xfrm>
            <a:off x="1371600" y="3733920"/>
            <a:ext cx="2590920" cy="1942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191120" y="685800"/>
            <a:ext cx="419076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PROGRAMME PROVISOIRE RUPTURES/ENGAGEMENTS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IXèmes Rencontres Mazel – Eté -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-1 &amp; 2 juillet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 Black"/>
              </a:rPr>
              <a:t>«Musiques de rupture/engagement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7:29:34Z</dcterms:created>
  <dc:creator>Roland</dc:creator>
  <dc:description/>
  <dc:language>en-US</dc:language>
  <cp:lastModifiedBy>Roland</cp:lastModifiedBy>
  <dcterms:modified xsi:type="dcterms:W3CDTF">2006-03-03T16:12:24Z</dcterms:modified>
  <cp:revision>14</cp:revision>
  <dc:subject/>
  <dc:title>Présentation PowerPoint</dc:title>
</cp:coreProperties>
</file>